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875-FCBB-4549-B2D0-44996330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BC2-4879-4A62-A02D-9847FD5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302-9E40-4927-B21C-F8ABA457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5EF-D0EA-4B56-AD29-4B9F2650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BA8-E9A7-441D-8A6D-FB38E18A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F55-D89A-4AA9-866A-E6558DC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A46-3A1E-47C3-880D-CD97489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2C8-1068-42DE-80F1-0FAAAB90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401-17E5-43FA-80C5-830E60C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6DB-1D4F-45A3-AAD2-C7019F29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C55-658B-41FC-9FE3-64E608DE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4A9-E94B-4043-95E2-2AB937F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839C-06E3-452E-A720-B768ABFDFCC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8 Pre každého z nás mies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každého z nás miest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v srdci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rišiel všetkých spas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aj nás pri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môžeme my det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neho vykonať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ím potešiť ho smiem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o mu darov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 chceme Pána chvál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zývať z vďačn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d neho sa uči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v útlej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ím každodenne kráč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ále viac ho zn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dary sú, čo jemu smi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é dieťa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budeme sa uč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verne prac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živote sa snaž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Pánu Boh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ým naplníme príkaz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pasiteľ dal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ť ako on si pra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riateľ a náš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48:50Z</dcterms:modified>
  <cp:revision>52</cp:revision>
  <dc:subject/>
  <dc:title>Je veľký náš Pán, on slávy je Kráľ Nech do všetkých strán  spev vrúcnych znie chvál.</dc:title>
</cp:coreProperties>
</file>